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EEB5-C91C-4941-B5CF-0BE947C82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A748-7311-4AEF-A471-92BBED973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BE1A-FA4E-4D38-9BD4-18603194B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1EC0-4A30-4E64-BF58-8D21C9FE9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15C0-FF16-4842-8E55-B6E48C457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B4B1-C94B-4378-864E-AAB4ED395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16DE-8269-4A89-98A1-99FA34DD6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1E63-407A-4D56-878D-26003B210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0EB4-7A37-4DCE-A3DF-FB2E60B95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6CFA-4A56-41A0-ACF3-A752FE617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9E26-8E30-432A-8395-D0AC8BD9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79B9-4316-4180-83B6-1C207F45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92DB0-32F9-4820-AAB3-812BFC3BC4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gebra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tanje trodimenzionalnih objek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redb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v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lane[tačka,tačka,tačka] - ravan kroz tri tačk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lane[prava,prava] - ravan određena dvema prava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lane[tačka,prava] - prava određena tačkom i prav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lane[poligon] - prava određena poligon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lane[tačka,ravan] – ravan paralelna datoj ravni kroz datu tačk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erpendicularPlane[tačka,prava] – normalna ravan na datu pravu kroz datu tačk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erpendicularPlane[tačka,vektor] – normalna ravan na dati vektor kroz datu tačk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ramida i ko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yramid[tačka,tačka] – tetraedar čija je stranica određena datim tačk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yramid[poligon,visina] – prava piramida date visine čija je baza dati polig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yramid[tačka,tačka,tačka,...] – piramida određena datim temen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ne[kružnica,visina] – pravi konus sa datiom kružnicom kao osnovom i datom visin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ne[tačka,tačka,poluprečnik] – konus čiji je centar osnove prva uneta tačka a vrh druga uneta tač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ne[tačka,vektor,ugao] – konus sa vrhom u datoj tački, sa visinom u pravcu datog vektora i nagibom izvodnice za dati uga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zma i cilind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rism[poligon,tačka] – prizma čija je donja baza dati poligon a data tačka je teme gornje baz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rism[poligon visina] – prava prizma date visine čija je baza dati polig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rism[tačka,tačka,...] – prizma čija su temena date tačk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ylinder[kružnica,visina] – pravi cilindar sa datom kružnicom kao osnovom i datom visin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ylinder[tačka,tačka,poluprečnik] – cilindar čije su osnove sa centrom u datim tačkama i sa datim poluprečnik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traedar, kocka, mrež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Tetrahedron[tačka,tačka] – tetraedar čija je stranica određena datim tačkama u proizvoljnom pravc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Tetrahedron[tačka,tačka,pravac] - tetraedar čija je stranica određena datim tačkama u datom pravc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ube[tačka,tačka] – kocka čija je stranica određena datim tačkama u proizvoljnom pravc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ube[tačka,tačka,pravac] - kocka čija je stranica određena datim tačkama u datom pravc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Net[telo,broj] – razvija mrežu datog tela u n delo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fera, preseci, refleks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phere[tačka,tačka] – sfera sa centrom u prvoj tački koja prolazi kroz drugu tačk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phere [tačka,poluprečnik] – sfera sa centrom u datoj tački i datim poluprečniko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Intersectpath [objekat, objekat] – linija kao presek dva uneta objekt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eflect [objekat,ravan] – simetrična slika datog objekta u odnosu na datu rava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vala na pažnj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eđivanje radnog prosto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ni klik na radnoj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vršini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aphics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fere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pping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ow cliping-postavljanje i uklanjanje granične kutij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pping box size-veličina granične kutij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z obzira da li je granična kutija posltavljena ili ne, objekti su prikazani samo unutar granične kuti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 istom padajućem meniju moguće je postaviti (ukloniti) koordinatne ose, Oxy ravan, kao i koordinatnu mrežu u toj ravn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eđivanje radnog prosto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gle Style Bar- otvara se klikom na strelicu ispod palete sa alatka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 njemu je moguć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rati tip projekcij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cizno dimenzionirati graničnu kutij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taviti pravac gledan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utomatski rotirati slik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tavljati koordinatne os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tavljati Oxyravan i mrežu unitar nj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Stylingbar graphics3D axes plane.svg"/>
          <p:cNvPicPr/>
          <p:nvPr/>
        </p:nvPicPr>
        <p:blipFill>
          <a:blip r:embed="rId1"/>
          <a:stretch/>
        </p:blipFill>
        <p:spPr>
          <a:xfrm>
            <a:off x="155520" y="4608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Stylingbar graphics3D axes plane.svg"/>
          <p:cNvPicPr/>
          <p:nvPr/>
        </p:nvPicPr>
        <p:blipFill>
          <a:blip r:embed="rId2"/>
          <a:stretch/>
        </p:blipFill>
        <p:spPr>
          <a:xfrm>
            <a:off x="155520" y="46080"/>
            <a:ext cx="15228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v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91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van kroz tri tačke –selektujemo tri tačke koje definišu rav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van (univerzalni alat)-selektuju se tri tačke, prava i tačka, dve prave ili polig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rmalna ravan-selektuju se tačka i linija normalna na rav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alelna ravan-selektuju se tačka i ravan u odnosu na koju se konstruiše paralelna ravan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Mode planethreepoint 32.gif"/>
          <p:cNvPicPr/>
          <p:nvPr/>
        </p:nvPicPr>
        <p:blipFill>
          <a:blip r:embed="rId1"/>
          <a:stretch/>
        </p:blipFill>
        <p:spPr>
          <a:xfrm>
            <a:off x="6588000" y="1700280"/>
            <a:ext cx="719280" cy="718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Mode plane.svg"/>
          <p:cNvPicPr/>
          <p:nvPr/>
        </p:nvPicPr>
        <p:blipFill>
          <a:blip r:embed="rId2"/>
          <a:stretch/>
        </p:blipFill>
        <p:spPr>
          <a:xfrm>
            <a:off x="6659640" y="3357720"/>
            <a:ext cx="576360" cy="576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Mode orthogonalplane.svg"/>
          <p:cNvPicPr/>
          <p:nvPr/>
        </p:nvPicPr>
        <p:blipFill>
          <a:blip r:embed="rId3"/>
          <a:stretch/>
        </p:blipFill>
        <p:spPr>
          <a:xfrm>
            <a:off x="6516720" y="465300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Mode parallelplane.svg"/>
          <p:cNvPicPr/>
          <p:nvPr/>
        </p:nvPicPr>
        <p:blipFill>
          <a:blip r:embed="rId4"/>
          <a:stretch/>
        </p:blipFill>
        <p:spPr>
          <a:xfrm>
            <a:off x="6659640" y="5877000"/>
            <a:ext cx="72072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f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fera definisana centrom i tačkom na sfe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fera definisana centrom i poluprečnikom sf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Mode sphere2.svg"/>
          <p:cNvPicPr/>
          <p:nvPr/>
        </p:nvPicPr>
        <p:blipFill>
          <a:blip r:embed="rId1"/>
          <a:stretch/>
        </p:blipFill>
        <p:spPr>
          <a:xfrm>
            <a:off x="6156360" y="2133720"/>
            <a:ext cx="646200" cy="645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Mode spherepointradius.svg"/>
          <p:cNvPicPr/>
          <p:nvPr/>
        </p:nvPicPr>
        <p:blipFill>
          <a:blip r:embed="rId2"/>
          <a:stretch/>
        </p:blipFill>
        <p:spPr>
          <a:xfrm>
            <a:off x="6156360" y="3429000"/>
            <a:ext cx="6476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ramida i ko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ramida definisana tačkom na vrhu i poligonom koji predstavlja baz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nus definisan centrom i poluprečnikom osnove i tačkom na vrh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va piramida ili kupa definisana pomoću baze i vis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Mode pyramid.svg"/>
          <p:cNvPicPr/>
          <p:nvPr/>
        </p:nvPicPr>
        <p:blipFill>
          <a:blip r:embed="rId1"/>
          <a:stretch/>
        </p:blipFill>
        <p:spPr>
          <a:xfrm>
            <a:off x="6300720" y="256536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Mode cone.svg"/>
          <p:cNvPicPr/>
          <p:nvPr/>
        </p:nvPicPr>
        <p:blipFill>
          <a:blip r:embed="rId2"/>
          <a:stretch/>
        </p:blipFill>
        <p:spPr>
          <a:xfrm>
            <a:off x="6300720" y="400536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Mode conify.svg"/>
          <p:cNvPicPr/>
          <p:nvPr/>
        </p:nvPicPr>
        <p:blipFill>
          <a:blip r:embed="rId3"/>
          <a:stretch/>
        </p:blipFill>
        <p:spPr>
          <a:xfrm>
            <a:off x="6300720" y="5445000"/>
            <a:ext cx="865080" cy="8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zma i cilind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zma definisana donjom bazom (poligonom) i jednim temenom na gornjoj baz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lindar definisan centrima osnova i poluprečnikom osn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va prizma ili cilindar definisan osnovom i visin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Mode cylinder.svg"/>
          <p:cNvPicPr/>
          <p:nvPr/>
        </p:nvPicPr>
        <p:blipFill>
          <a:blip r:embed="rId1"/>
          <a:stretch/>
        </p:blipFill>
        <p:spPr>
          <a:xfrm>
            <a:off x="6227640" y="4005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Mode prism.svg"/>
          <p:cNvPicPr/>
          <p:nvPr/>
        </p:nvPicPr>
        <p:blipFill>
          <a:blip r:embed="rId2"/>
          <a:stretch/>
        </p:blipFill>
        <p:spPr>
          <a:xfrm>
            <a:off x="6156360" y="2276640"/>
            <a:ext cx="863640" cy="863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Mode extrusion.svg"/>
          <p:cNvPicPr/>
          <p:nvPr/>
        </p:nvPicPr>
        <p:blipFill>
          <a:blip r:embed="rId3"/>
          <a:stretch/>
        </p:blipFill>
        <p:spPr>
          <a:xfrm>
            <a:off x="6227640" y="5373720"/>
            <a:ext cx="84132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traedar, kocka, mrež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traedar definisan dvema tačkama i jednom ravni (fakultativn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ocka definisana dvema tačkama i jednom ravni (fakultativn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reža prizme ili piram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Mode net.svg"/>
          <p:cNvPicPr/>
          <p:nvPr/>
        </p:nvPicPr>
        <p:blipFill>
          <a:blip r:embed="rId1"/>
          <a:stretch/>
        </p:blipFill>
        <p:spPr>
          <a:xfrm>
            <a:off x="6156360" y="508464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Mode cube.svg"/>
          <p:cNvPicPr/>
          <p:nvPr/>
        </p:nvPicPr>
        <p:blipFill>
          <a:blip r:embed="rId2"/>
          <a:stretch/>
        </p:blipFill>
        <p:spPr>
          <a:xfrm>
            <a:off x="6084720" y="3500280"/>
            <a:ext cx="935280" cy="935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Mode tetrahedron.svg"/>
          <p:cNvPicPr/>
          <p:nvPr/>
        </p:nvPicPr>
        <p:blipFill>
          <a:blip r:embed="rId3"/>
          <a:stretch/>
        </p:blipFill>
        <p:spPr>
          <a:xfrm>
            <a:off x="6084720" y="2133720"/>
            <a:ext cx="79236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š neki korisni ala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sek dveju površi-kao rezultat dobija se kriva ili prav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metija u odnosi na rav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tacija 3D prosto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mena prespektive gledanj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Mode viewinfrontof.svg"/>
          <p:cNvPicPr/>
          <p:nvPr/>
        </p:nvPicPr>
        <p:blipFill>
          <a:blip r:embed="rId1"/>
          <a:stretch/>
        </p:blipFill>
        <p:spPr>
          <a:xfrm>
            <a:off x="5796000" y="501336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Mode rotateview.svg"/>
          <p:cNvPicPr/>
          <p:nvPr/>
        </p:nvPicPr>
        <p:blipFill>
          <a:blip r:embed="rId2"/>
          <a:stretch/>
        </p:blipFill>
        <p:spPr>
          <a:xfrm>
            <a:off x="6012000" y="386064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" descr="Mode mirroratplane.svg"/>
          <p:cNvPicPr/>
          <p:nvPr/>
        </p:nvPicPr>
        <p:blipFill>
          <a:blip r:embed="rId3"/>
          <a:stretch/>
        </p:blipFill>
        <p:spPr>
          <a:xfrm>
            <a:off x="6012000" y="292428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Mode intersectioncurve.svg"/>
          <p:cNvPicPr/>
          <p:nvPr/>
        </p:nvPicPr>
        <p:blipFill>
          <a:blip r:embed="rId4"/>
          <a:stretch/>
        </p:blipFill>
        <p:spPr>
          <a:xfrm>
            <a:off x="5940360" y="2060640"/>
            <a:ext cx="72072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2T13:14:27Z</dcterms:created>
  <dc:creator>Bogdan Pirkovic</dc:creator>
  <dc:description/>
  <dc:language>en-US</dc:language>
  <cp:lastModifiedBy>Bogdan Pirkovic</cp:lastModifiedBy>
  <dcterms:modified xsi:type="dcterms:W3CDTF">2014-12-04T15:28:58Z</dcterms:modified>
  <cp:revision>4</cp:revision>
  <dc:subject/>
  <dc:title>Geogebra 3D</dc:title>
</cp:coreProperties>
</file>