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523-1AAF-4E16-B5CB-8320E897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C05-CB89-4662-AF88-8C0E92B7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10B-1DEC-485F-8A1F-73C156A0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FB2-D379-4E16-BD47-8E405C0D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774F-54B8-47A3-A652-F5DB64BB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451F-B09B-44D0-AE88-F0A0E316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C172-0989-4291-AA3E-63EB64DE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3083-D04F-4239-8ABC-3D44B123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6657-EF50-4B53-A388-473F4278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439F-3D00-412C-B8E1-E86140B1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48B7-E78E-4171-BB80-CFA8A495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E1D-51DC-4130-9855-DED9FED4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3C3A-32B9-457B-9D77-83720DD0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FDFA-A445-4659-88FA-F33BE81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1B6D-4EC0-4721-888B-B73BF44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FFDA-BB2E-4035-841F-E23544E5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57F1-7B55-43AE-9E69-1AAFCBA7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31CA-F8DB-4B63-8068-E5E88D9A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80DE-6A09-4B1E-A5EE-40AD264D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C015-1C30-4A6E-A562-53AF0FB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B1E5E-09C5-4C08-BFE8-4F9508AF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73F4-2730-461E-9D40-89359FD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EB7-FD1E-43FE-B0EB-831A7CFC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8B37-8CFD-4CF1-BA89-1D2610DA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DC77-FD10-4FF3-8D9B-2492F5A1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3D6C-DC7D-4F48-83B0-1D4B3E9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60E4-DC69-4824-9CED-261C586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53B64-147E-4608-BCF1-64C8C9B9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F88F-F845-46E4-972F-6B80BAA5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9072-113E-460C-98C3-5B4822EE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FAE5-2B7C-4501-BE5C-932CA480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2A4A-4D0B-477D-B4AF-AD56F69D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52BD-5893-4AD5-9E7C-A8345654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823-9807-4160-835F-B4F49525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D45FF-8FAB-4EBB-97D5-08399913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AA37-E00A-46D5-8F41-0058ECB1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1D8A-B8E6-4983-90D3-AB0DECE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77B2F-0498-4468-86FF-1727DFC9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A414-64F0-4DB5-AB9B-E83D3B2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B1488-5480-450E-9A3B-4248391C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DF73-1C69-423A-8D7B-4E9D631A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489EB-ABCF-4FC9-B876-5CF94062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35BD-EE21-4E16-87BF-D863716B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67A-2B40-4F17-AC73-396143D3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A7B-E321-4C1A-AE23-64CCAD2D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A21-06C8-4995-AE95-7251F128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579-C22A-4544-B3E8-CF819D27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766-C9D7-4F4D-B445-71434EFA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DEE7-7902-4C2B-BF34-4AFFD800B3B9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6755-0C99-419A-BEA7-8A50FA8841C3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B044-D0E5-4318-AA1C-480DD8C84C87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29CE-C69B-4983-90BA-C7B2C13E3EA6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imeri%201%20i%202.nb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58920" y="1795320"/>
            <a:ext cx="662616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0000"/>
                </a:solidFill>
                <a:latin typeface="Arial"/>
              </a:rPr>
              <a:t>Операције са комплексним бројеви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анијела Милутиновић 1011/2011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 u="sng">
                <a:solidFill>
                  <a:srgbClr val="d83e2c"/>
                </a:solidFill>
                <a:uFillTx/>
                <a:latin typeface="Constantia"/>
                <a:hlinkClick r:id="rId1"/>
              </a:rPr>
              <a:t>Уводни део ча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Content Placeholder 2" descr=""/>
          <p:cNvPicPr/>
          <p:nvPr/>
        </p:nvPicPr>
        <p:blipFill>
          <a:blip r:embed="rId2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0000"/>
                </a:solidFill>
                <a:latin typeface="Constantia"/>
              </a:rPr>
              <a:t>Централни део ча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инишемо операције са комплексним бројевим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водимо примере за сваку од тих операциј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једно са ученицима уочавамо законитости које важе за структуру комплексних бројев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Операције са комплексним бројевим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Content Placeholder 2" descr=""/>
          <p:cNvPicPr/>
          <p:nvPr/>
        </p:nvPicPr>
        <p:blipFill>
          <a:blip r:embed="rId1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Constantia"/>
              </a:rPr>
              <a:t>Операције са комплексним бројевим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Content Placeholder 2" descr=""/>
          <p:cNvPicPr/>
          <p:nvPr/>
        </p:nvPicPr>
        <p:blipFill>
          <a:blip r:embed="rId1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Arial"/>
              </a:rPr>
              <a:t>Задаци за рад на час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Content Placeholder 2" descr=""/>
          <p:cNvPicPr/>
          <p:nvPr/>
        </p:nvPicPr>
        <p:blipFill>
          <a:blip r:embed="rId1"/>
          <a:stretch/>
        </p:blipFill>
        <p:spPr>
          <a:xfrm>
            <a:off x="1371600" y="2077920"/>
            <a:ext cx="628488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Arial"/>
              </a:rPr>
              <a:t>Задаци за вежб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Content Placeholder 2" descr=""/>
          <p:cNvPicPr/>
          <p:nvPr/>
        </p:nvPicPr>
        <p:blipFill>
          <a:blip r:embed="rId1"/>
          <a:stretch/>
        </p:blipFill>
        <p:spPr>
          <a:xfrm>
            <a:off x="1371600" y="2077920"/>
            <a:ext cx="628488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29:17Z</dcterms:created>
  <dc:creator>DacaMajaJoka</dc:creator>
  <dc:description/>
  <dc:language>en-US</dc:language>
  <cp:lastModifiedBy>DacaMajaJoka</cp:lastModifiedBy>
  <dcterms:modified xsi:type="dcterms:W3CDTF">2012-01-21T14:38:41Z</dcterms:modified>
  <cp:revision>15</cp:revision>
  <dc:subject/>
  <dc:title>Операције са комплексним бројевима</dc:title>
</cp:coreProperties>
</file>